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291-59C0-4C85-851E-7B91EAC1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5E2-F98D-45B0-93F2-E703D394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85401-29F5-4B5D-A3EC-5736F413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15B73-9D85-4AEC-9CE2-9FB14C26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DE459-EC77-4A21-956F-D17747A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2A5A3-675C-47ED-A964-809ED5A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7A70D-B256-4B27-A21B-7F2C7FB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FB6E8-F27A-461E-A3FA-26EEEDD7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91396-4792-4357-81B6-A0DA34C7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7BD6B-B23A-48A7-938D-ECF1CCF7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8E00F-7D62-4D12-B5DC-014F952E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05B04-52CA-484C-9CB4-65981E1D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FD5-682D-4726-AE8F-EB9E2F97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1400D-D176-43E9-9AEE-83908D0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5147D-006A-479F-B249-32DA5F24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CC672-9848-48D4-AE61-E918E9F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907BE-96C0-4876-8486-AEB6D28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1396-07A4-4631-B636-F1E70E16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B1631-B46F-4261-9824-3ED2483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2B5D5-0378-4B34-A788-A86432B8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A0237-8FF7-42B6-8EB6-CB1B12E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2BF2F-6641-4665-90ED-5AB79AB4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DD063-7785-434C-B5BF-C625C25B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06C9-87C9-4E4B-AD25-E6562979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09FA1-6B18-41D2-AA4D-F3EE8B30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6C682-BB60-4AFB-B432-D699A6A5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F4325-25F6-4634-A374-CE52F84A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69329-D59F-4188-9997-DE376294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FB140-FE1F-4FE3-A584-922D7E15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D9A0C-40AD-4EA8-9A64-C5ABE6B6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44E33-8EAF-4C47-93C6-3C2CCDE5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5DE86-2D61-4C44-B89F-7FD27F4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94FD5-A375-4A68-9D57-E3ABD1A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4F8AB-73EE-48B9-9580-68F0C9E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744F-1ED6-4B92-A641-6A64AB86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14802-F2D1-47BD-8998-8F5F305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A655-AF8A-4707-B3ED-D6036CD7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3E2E0-2FFE-424B-B2A1-B82BF089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CB3D7-E3E9-424D-B691-C9AB1BE7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46A5F-3591-48AC-A0B3-3EB285F0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353D3-4A78-4E88-BE89-2C5017B2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A527C-A0C3-49A4-B60C-27DE00F7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09534-91DE-4C55-A95A-0F4714A9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42EF3-7ED1-4308-BE6C-0884D7D9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A8610-F88A-4B13-AD8C-2AD1F44A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2AA5-C956-4023-B8F1-2C8D477C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4FA0E-992C-4396-8351-0FA600A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FC80F-1C7B-4621-8E2C-0BB6CD5E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22261-0199-4FB5-8F9F-F37E795F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1CE38-E500-4BC0-AD65-8BA58404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90C56-CD6F-4552-B3B5-9B01CE2E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D0CC-7FD5-4171-A060-EB7927D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E525-E6F7-4C3D-90F8-992D551A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DF9A-B6D4-41B2-911D-D70CB6FD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53A8-740C-43EB-BAC9-D7FB8DB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3E5F-9B31-492C-A620-A5D354B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D42-477B-456B-92EC-E2A9C432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28BB-6BAC-4C92-86BD-65DDB68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7A4E-4027-498D-A614-C12CDAD8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D7CF-E440-409B-92C3-E483361E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9225-8439-4534-A6FF-3E6F713C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9042-2993-41C5-8268-64094FA8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726B-BD5C-445E-B21C-3E8F3867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4304-E992-4B7B-A1D3-922F1FE8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6C836-3B5A-41ED-83A5-DBEBCE9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52524-ADB9-4A25-8480-E93C96CF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2862-52B9-4FF5-9214-E5636D4F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09D-D6A8-48B2-833B-EFDAD230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EC00-A641-4677-907C-227A54FB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D67C-6F61-4A50-984E-0DFCC0C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D4DD-50CC-4808-BA27-224B5D8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8193-23E9-49CF-9EB0-6BE76F7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49B2-F91F-42BD-82A8-FF01EB7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680E-9DC9-4EE5-88EB-54BF75F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83F3-BEDB-42E2-9613-5B71D405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86F8-A747-4A81-8549-EB98D7BC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CD6D-199E-4BF5-81F9-E8BE33E0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38C0-E427-442F-A299-64C1BDF8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01F-A390-4167-9F93-7D936352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D864A-CD20-4B53-98D6-120BE48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BBE3-76C7-4F4D-A06F-CAEE17F4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E35F-F4BC-44E5-BE05-7A62BDE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0C3B1-35E3-434F-B56D-44A6A6AA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A520-C574-496D-AF9A-194E23F4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07918-D7B2-4E8C-8CA4-C1B0B422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7ED8-13E6-4FE9-8599-C6F2DE66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305C-FCB3-42B7-A668-65512B3D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E1E7-068D-41A0-8FFE-B4D50C8F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2236-6919-42E4-95AE-EEA03D8A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C2B-1330-401D-B449-94A1A682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A56AF-AD82-4669-A0D0-EF5345CA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525C-2D92-4B7A-A67E-7F133EA7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FE64-5615-4590-8054-C46DE57C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CCEE-A0A0-4B72-9367-22FABF01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E28B-8F8C-42CB-882B-2FFAF52D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E4B7-2353-4681-ABBE-92198CC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DC3E-2566-47DC-BAEB-2058586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41203-13FD-47EA-ABB6-6EAA512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F109-B222-43EA-A07F-2046C59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E0970-A493-43E2-92A7-3DD28579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3B6-B13A-44AF-B7A4-0E3BD96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39C8-2B18-4136-B0E1-66879BCB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91AFB-9136-481A-90EF-FDB4EF07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581DB-369C-429F-B562-24AB270F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268A-1C4A-4FC0-B00C-5B295B56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7A01C-CCF6-46BF-A2FA-65E9C991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D60EF-FEF7-48D8-91B2-8A0E4147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391D4-E6EF-4EDE-9DA3-0EFD6A43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9F88-FC17-43E0-A63A-75EF050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6F4D-F20B-4374-B201-55A9732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D1822-65E3-447F-951A-B6E907C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8A9-4D65-4E67-915B-D5C16819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E194D-2801-41B4-943D-81AC5216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700F-FA8E-4E71-8B9C-8455EDA7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3FC0B-E811-4D7D-935D-35803BF3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0818-2A22-4DF3-937E-F2DB81D7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AA3B-0B8D-475B-921B-3DEE6B3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2EF65-6357-4037-9ECA-682CA6BE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7751B-C3AC-48FA-8BFD-E24EE87B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4CC26-D294-47B6-A45A-193E257F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C530-1417-4493-8A98-550AB376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E6EC-6879-4731-8A29-6620E08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612-8C04-42D0-B3B9-889A83B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BD1F-FDF2-47DD-A7E6-8181A17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CF45-993B-4BFD-A9EB-594D039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F70C-A68F-4410-BD7E-9ABB3DBB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527A-7B54-4366-BD71-729C607B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912AA-D184-4AD2-A5A5-FAA85781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65D44-6159-48DF-A314-EFF05655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AAF5-0777-425E-B04D-25AE17A0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BFEEF-7643-4107-85C5-F808DCB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5B1CF-A13F-4E53-BFEF-3F15843B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00176-F809-400F-968D-E0D0B0AF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64C-86BF-42D1-9546-425CD7AB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13E5A-2E1D-4DFB-BBF6-500CB11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6BA91-9601-492F-B714-E316058A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9F330-3FBF-4ECB-8716-F07122C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95D9-74B9-46FE-9F7C-3E7D5318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3FBF5-3BCE-48EA-9007-02DC789E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E3A22-A569-488B-B0B0-25BFC41D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4733-3CB4-4D2A-8CDD-976EA895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C9898-9437-4703-80FE-65F88654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D9F3A-7694-4E4F-9D0D-D877A05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90E59-FD72-46F0-950E-B4291D95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5AAED-20C2-4CF7-8E93-AD5830C41C2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54716-FC18-4EE7-9AD8-C5E12FA78C9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C2595-55B8-4E41-A0EB-439179EE68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3D1CE-DD43-4D11-A886-AB0C16327D8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35A31-425F-4FFC-82EE-D96F8A46C5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6ABE3-B69E-46B6-A5E3-CA5A62AE6A25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0BC5E-D257-4F1A-8EEE-CD98FA092A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11268-2F37-4625-92E4-77777F32452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56686-843A-4FC6-81E3-6F98B376E2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4372E-6510-47F6-8165-019969D02EE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E4E60-E0F8-4F31-8421-6CC673D727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A5DA7-8C4E-472A-9D80-CF7B73AF3D4E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77006-DCF7-4689-96ED-A90AE7D766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DA914-5E7F-4BFA-9DCC-5C7B99A48B7C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5697D-E7C9-400E-94A5-5EA496A632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0B21B-F36D-4A4D-A322-60EE48A12B1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3EC7D-5094-46A6-8308-D640AB1D5D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96ABB-586C-4772-8A83-9C45CF434C0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F25F6-DE24-459B-B822-FA221BAB24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F62AB-A168-4232-AC05-16EBD10BF35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2D36-146E-48D1-9650-6A9AC54EF5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8A93D-4317-461D-9308-3310C5311E4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FE401-D273-45B7-ABB0-14C9F0ED0E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xile.com/fab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xile.com/about-lexile/lexile-video/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6A142-5EFC-4656-94AE-9B5069206C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the Text in Compreh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4572000" y="2819520"/>
            <a:ext cx="1600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Oval 8"/>
          <p:cNvSpPr/>
          <p:nvPr/>
        </p:nvSpPr>
        <p:spPr>
          <a:xfrm>
            <a:off x="4114800" y="4038480"/>
            <a:ext cx="16002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Oval 9"/>
          <p:cNvSpPr/>
          <p:nvPr/>
        </p:nvSpPr>
        <p:spPr>
          <a:xfrm>
            <a:off x="2666880" y="2130480"/>
            <a:ext cx="4267440" cy="39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430524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4876920" y="3276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3924360" y="222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cio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4419720" y="556272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Oval 6"/>
          <p:cNvSpPr/>
          <p:nvPr/>
        </p:nvSpPr>
        <p:spPr>
          <a:xfrm>
            <a:off x="3314880" y="2933640"/>
            <a:ext cx="156204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3676680" y="350532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17"/>
          <p:cNvSpPr/>
          <p:nvPr/>
        </p:nvSpPr>
        <p:spPr>
          <a:xfrm>
            <a:off x="1371600" y="2130480"/>
            <a:ext cx="2305080" cy="1374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14"/>
          <p:cNvSpPr/>
          <p:nvPr/>
        </p:nvSpPr>
        <p:spPr>
          <a:xfrm>
            <a:off x="3539880" y="624528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ND READING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BD1E1-FD39-4C71-9FD6-D51BE01466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52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ndard #10: Text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itle 1"/>
          <p:cNvSpPr/>
          <p:nvPr/>
        </p:nvSpPr>
        <p:spPr>
          <a:xfrm>
            <a:off x="914400" y="615780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Cor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6" name="Picture 7" descr="Screen shot 2011-10-04 at 10.06.46 PM.png"/>
          <p:cNvPicPr/>
          <p:nvPr/>
        </p:nvPicPr>
        <p:blipFill>
          <a:blip r:embed="rId2"/>
          <a:stretch/>
        </p:blipFill>
        <p:spPr>
          <a:xfrm>
            <a:off x="546120" y="2616120"/>
            <a:ext cx="8051760" cy="3479760"/>
          </a:xfrm>
          <a:prstGeom prst="rect">
            <a:avLst/>
          </a:prstGeom>
          <a:ln w="0">
            <a:noFill/>
          </a:ln>
        </p:spPr>
      </p:pic>
      <p:sp>
        <p:nvSpPr>
          <p:cNvPr id="547" name="Title 1"/>
          <p:cNvSpPr/>
          <p:nvPr/>
        </p:nvSpPr>
        <p:spPr>
          <a:xfrm>
            <a:off x="546120" y="1295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d and comprehe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iterary and informational tex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depend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fici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In Action</a:t>
            </a:r>
            <a:br>
              <a:rPr sz="4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rrative of the Life of Frederick Dougl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Gr. 6-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ativ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Conventionality and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Dem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ative Measur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-Metrix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er/Task Consid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mmended Plac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is text in Grades 6-8 complexity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972BC-145D-4C99-ACC5-F24839281B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ook from your coll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handout to guide your thinking about each of the important text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exile Book Search to determine the lexile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book a good fit for this grade rang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BD3AC-131D-461C-84B9-555D36F414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4" name="Picture 5" descr="Screen shot 2011-10-04 at 10.32.11 PM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3809880"/>
            <a:ext cx="304812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4: Differentiation (p. 102-11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21 Program Overview (on the wiki) with 1 page reading guide **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ng up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y Interview – due next Tuesday (Oct. 11) OR Thursday (Oct. 1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. 13:  Quiz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5F19D-AC05-47C2-AD03-1FF3DC2C94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apted from Kucan &amp; Palincsar IES 2009-20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CC6DA-DC1C-4031-B809-0E1773329E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7" name="Picture 5" descr="Screen shot 2011-10-04 at 9.34.07 PM.png"/>
          <p:cNvPicPr/>
          <p:nvPr/>
        </p:nvPicPr>
        <p:blipFill>
          <a:blip r:embed="rId2"/>
          <a:stretch/>
        </p:blipFill>
        <p:spPr>
          <a:xfrm>
            <a:off x="3070080" y="0"/>
            <a:ext cx="592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TextBox 6" descr=""/>
          <p:cNvPicPr/>
          <p:nvPr/>
        </p:nvPicPr>
        <p:blipFill>
          <a:blip r:embed="rId3"/>
          <a:stretch/>
        </p:blipFill>
        <p:spPr>
          <a:xfrm>
            <a:off x="182520" y="1994040"/>
            <a:ext cx="28954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a text difficul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t and discuss …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FA8E3-4565-4984-89DC-EEDB137BCA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a text difficul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t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level; Accessibility (emotional &amp; cognitive); Readability (text difficulty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level (the re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(95-99% accuracy; 90%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(90-95% accuracy; 75%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strational (&gt;90% accuracy; &gt; 50% co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(comprehend 75% key 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2A8EF-D6D1-4AAE-85AF-3F8B29B317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a text difficul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ntas &amp; Pinnell (Level A-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 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&amp; Literar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an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and pri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3D833-9271-42C4-98F9-A5D2E2D3C6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5"/>
          <p:cNvSpPr/>
          <p:nvPr/>
        </p:nvSpPr>
        <p:spPr>
          <a:xfrm>
            <a:off x="5450760" y="2631960"/>
            <a:ext cx="34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handout for mo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9" name="Elbow Connector 7"/>
          <p:cNvCxnSpPr/>
          <p:nvPr/>
        </p:nvCxnSpPr>
        <p:spPr>
          <a:xfrm flipH="1" rot="16200000">
            <a:off x="6418080" y="2039400"/>
            <a:ext cx="727560" cy="4579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what’s readability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how do you calculate it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04499-3A2B-4101-A650-FAA793F51E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y Readability Formu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of sentences and # of syl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AC3CE-6E10-4631-9EA1-EC138BC4EA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Picture 5" descr="Screen shot 2011-10-04 at 9.30.52 PM.png"/>
          <p:cNvPicPr/>
          <p:nvPr/>
        </p:nvPicPr>
        <p:blipFill>
          <a:blip r:embed="rId2"/>
          <a:stretch/>
        </p:blipFill>
        <p:spPr>
          <a:xfrm>
            <a:off x="0" y="1828800"/>
            <a:ext cx="9144000" cy="37879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6"/>
          <p:cNvSpPr/>
          <p:nvPr/>
        </p:nvSpPr>
        <p:spPr>
          <a:xfrm>
            <a:off x="1307520" y="57834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FIVE factors of comprehension?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3639960" y="62596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: TEXT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xile Level =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tence length and word 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527FA-70B8-4A68-80A1-B94872F86B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9" name="Picture 5" descr="Screen shot 2011-10-04 at 9.42.03 PM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01960" y="1790640"/>
            <a:ext cx="5937120" cy="43815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Screen shot 2011-10-04 at 9.41.24 PM.png"/>
          <p:cNvPicPr/>
          <p:nvPr/>
        </p:nvPicPr>
        <p:blipFill>
          <a:blip r:embed="rId4"/>
          <a:stretch/>
        </p:blipFill>
        <p:spPr>
          <a:xfrm>
            <a:off x="295200" y="1828800"/>
            <a:ext cx="2314800" cy="219060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3809520" y="6259680"/>
            <a:ext cx="35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WO: TEXT &amp; READER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-48240" y="472428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VE factor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hension?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 Complexity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F7A59-CA91-4D23-8636-850A46374A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5" name="Picture 5" descr="Screen shot 2011-10-04 at 9.21.35 PM.png"/>
          <p:cNvPicPr/>
          <p:nvPr/>
        </p:nvPicPr>
        <p:blipFill>
          <a:blip r:embed="rId2"/>
          <a:stretch/>
        </p:blipFill>
        <p:spPr>
          <a:xfrm>
            <a:off x="2819520" y="1828800"/>
            <a:ext cx="3581280" cy="3268800"/>
          </a:xfrm>
          <a:prstGeom prst="rect">
            <a:avLst/>
          </a:prstGeom>
          <a:ln w="0">
            <a:noFill/>
          </a:ln>
        </p:spPr>
      </p:pic>
      <p:sp>
        <p:nvSpPr>
          <p:cNvPr id="536" name="TextBox 6"/>
          <p:cNvSpPr/>
          <p:nvPr/>
        </p:nvSpPr>
        <p:spPr>
          <a:xfrm>
            <a:off x="750960" y="1219320"/>
            <a:ext cx="3440160" cy="1739880"/>
          </a:xfrm>
          <a:prstGeom prst="rect">
            <a:avLst/>
          </a:prstGeom>
          <a:solidFill>
            <a:srgbClr val="fab93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UMAN RAT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s of mea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nguage conventiona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dem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5029200" y="1219320"/>
            <a:ext cx="3440160" cy="1739880"/>
          </a:xfrm>
          <a:prstGeom prst="rect">
            <a:avLst/>
          </a:prstGeom>
          <a:solidFill>
            <a:srgbClr val="e0603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UTER SCOR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ord frequ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tence leng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Cohe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Metrix and Lexil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1295280" y="4444920"/>
            <a:ext cx="2133720" cy="1191240"/>
          </a:xfrm>
          <a:prstGeom prst="rect">
            <a:avLst/>
          </a:prstGeom>
          <a:solidFill>
            <a:srgbClr val="a6a6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Box 9"/>
          <p:cNvSpPr/>
          <p:nvPr/>
        </p:nvSpPr>
        <p:spPr>
          <a:xfrm>
            <a:off x="5943600" y="4497480"/>
            <a:ext cx="2525760" cy="1191240"/>
          </a:xfrm>
          <a:prstGeom prst="rect">
            <a:avLst/>
          </a:prstGeom>
          <a:solidFill>
            <a:srgbClr val="a6a6a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rpose/Con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ions Po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750960" y="6555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mon Core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Box 11"/>
          <p:cNvSpPr/>
          <p:nvPr/>
        </p:nvSpPr>
        <p:spPr>
          <a:xfrm>
            <a:off x="4787280" y="5829480"/>
            <a:ext cx="36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-5! Teacher, tex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der, &amp; task/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12"/>
          <p:cNvSpPr/>
          <p:nvPr/>
        </p:nvSpPr>
        <p:spPr>
          <a:xfrm>
            <a:off x="372240" y="5867280"/>
            <a:ext cx="38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 FIVE fac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comprehension?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1:18:56Z</dcterms:created>
  <dc:creator>annemari</dc:creator>
  <dc:description/>
  <dc:language>en-US</dc:language>
  <cp:lastModifiedBy>Julie Coiro</cp:lastModifiedBy>
  <cp:lastPrinted>2009-07-26T16:58:48Z</cp:lastPrinted>
  <dcterms:modified xsi:type="dcterms:W3CDTF">2011-10-05T03:02:20Z</dcterms:modified>
  <cp:revision>65</cp:revision>
  <dc:subject/>
  <dc:title>Slide 1</dc:title>
</cp:coreProperties>
</file>